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CHIMES.WAV" ContentType="audio/x-wav"/>
  <Override PartName="/ppt/media/telephone.wav" ContentType="audio/x-wav"/>
  <Override PartName="/ppt/media/shiphorn.wav" ContentType="audio/x-wav"/>
  <Override PartName="/ppt/media/zapbig0g.wav" ContentType="audio/x-wav"/>
  <Override PartName="/ppt/media/zipup202.wav" ContentType="audio/x-wav"/>
  <Override PartName="/ppt/media/children%20yeah.wav" ContentType="audio/x-wav"/>
  <Override PartName="/ppt/media/driveby.wav" ContentType="audio/x-wav"/>
  <Override PartName="/ppt/media/zipby102.wav" ContentType="audio/x-wav"/>
  <Override PartName="/ppt/media/boinng04.wav" ContentType="audio/x-wav"/>
  <Override PartName="/ppt/media/bserie06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77E6-5EB6-4BBD-A560-BB7457F2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F886-2B70-4638-AA5C-A1408F64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3D9C-2642-43C7-B460-DAA44E53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CC12-EC4A-4A77-9F22-ACA63E3A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A663-C101-42B3-BED9-229E65D0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9E5F-A1C5-4DCF-AF50-32A91AEC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E01B-6C1B-480E-B54E-E9593EBA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D710-1095-4AE5-8E58-EFE003A0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905A-F34B-4A6C-96C9-3EC81DAC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9792-76DA-4738-890B-A291C979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51E2-42C4-4C90-91AF-FF900EAF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1C68-941C-4359-8AA9-E492BA40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C91A-D33E-47FB-9302-C2352C9D0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telephone.wav"/><Relationship Id="rId4" Type="http://schemas.openxmlformats.org/officeDocument/2006/relationships/audio" Target="../media/shiphorn.wav"/><Relationship Id="rId5" Type="http://schemas.openxmlformats.org/officeDocument/2006/relationships/audio" Target="../media/zipup202.wav"/><Relationship Id="rId6" Type="http://schemas.openxmlformats.org/officeDocument/2006/relationships/audio" Target="../media/driveby.wav"/><Relationship Id="rId7" Type="http://schemas.openxmlformats.org/officeDocument/2006/relationships/audio" Target="../media/driveby.wav"/><Relationship Id="rId8" Type="http://schemas.openxmlformats.org/officeDocument/2006/relationships/audio" Target="../media/zipby102.wav"/><Relationship Id="rId9" Type="http://schemas.openxmlformats.org/officeDocument/2006/relationships/audio" Target="../media/driveby.wav"/><Relationship Id="rId10" Type="http://schemas.openxmlformats.org/officeDocument/2006/relationships/audio" Target="../media/driveby.wav"/><Relationship Id="rId11" Type="http://schemas.openxmlformats.org/officeDocument/2006/relationships/audio" Target="../media/zipby102.wav"/><Relationship Id="rId12" Type="http://schemas.openxmlformats.org/officeDocument/2006/relationships/audio" Target="../media/driveby.wav"/><Relationship Id="rId13" Type="http://schemas.openxmlformats.org/officeDocument/2006/relationships/audio" Target="../media/driveby.wav"/><Relationship Id="rId14" Type="http://schemas.openxmlformats.org/officeDocument/2006/relationships/audio" Target="../media/zipby102.wav"/><Relationship Id="rId15" Type="http://schemas.openxmlformats.org/officeDocument/2006/relationships/audio" Target="../media/driveby.wav"/><Relationship Id="rId16" Type="http://schemas.openxmlformats.org/officeDocument/2006/relationships/audio" Target="../media/driveby.wav"/><Relationship Id="rId17" Type="http://schemas.openxmlformats.org/officeDocument/2006/relationships/audio" Target="../media/driveby.wav"/><Relationship Id="rId18" Type="http://schemas.openxmlformats.org/officeDocument/2006/relationships/audio" Target="../media/zipby102.wav"/><Relationship Id="rId19" Type="http://schemas.openxmlformats.org/officeDocument/2006/relationships/audio" Target="../media/children%20yeah.wav"/><Relationship Id="rId20" Type="http://schemas.openxmlformats.org/officeDocument/2006/relationships/audio" Target="../media/children%20yeah.wav"/><Relationship Id="rId21" Type="http://schemas.openxmlformats.org/officeDocument/2006/relationships/audio" Target="../media/children%20yeah.wav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zapbig0g.wav"/><Relationship Id="rId3" Type="http://schemas.openxmlformats.org/officeDocument/2006/relationships/audio" Target="../media/zipup202.wav"/><Relationship Id="rId4" Type="http://schemas.openxmlformats.org/officeDocument/2006/relationships/audio" Target="../media/zapbig0g.wav"/><Relationship Id="rId5" Type="http://schemas.openxmlformats.org/officeDocument/2006/relationships/audio" Target="../media/boinng04.wav"/><Relationship Id="rId6" Type="http://schemas.openxmlformats.org/officeDocument/2006/relationships/audio" Target="../media/zapbig0g.wav"/><Relationship Id="rId7" Type="http://schemas.openxmlformats.org/officeDocument/2006/relationships/audio" Target="../media/zipby102.wav"/><Relationship Id="rId8" Type="http://schemas.openxmlformats.org/officeDocument/2006/relationships/audio" Target="../media/driveby.wav"/><Relationship Id="rId9" Type="http://schemas.openxmlformats.org/officeDocument/2006/relationships/audio" Target="../media/zapbig0g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zipby102.wav"/><Relationship Id="rId13" Type="http://schemas.openxmlformats.org/officeDocument/2006/relationships/audio" Target="../media/zipby102.wav"/><Relationship Id="rId14" Type="http://schemas.openxmlformats.org/officeDocument/2006/relationships/audio" Target="../media/zapbig0g.wav"/><Relationship Id="rId15" Type="http://schemas.openxmlformats.org/officeDocument/2006/relationships/audio" Target="../media/boinng04.wav"/><Relationship Id="rId16" Type="http://schemas.openxmlformats.org/officeDocument/2006/relationships/audio" Target="../media/zapbig0g.wav"/><Relationship Id="rId17" Type="http://schemas.openxmlformats.org/officeDocument/2006/relationships/audio" Target="../media/zipby102.wav"/><Relationship Id="rId18" Type="http://schemas.openxmlformats.org/officeDocument/2006/relationships/audio" Target="../media/driveby.wav"/><Relationship Id="rId19" Type="http://schemas.openxmlformats.org/officeDocument/2006/relationships/audio" Target="../media/zapbig0g.wav"/><Relationship Id="rId20" Type="http://schemas.openxmlformats.org/officeDocument/2006/relationships/audio" Target="../media/bserie06.wav"/><Relationship Id="rId21" Type="http://schemas.openxmlformats.org/officeDocument/2006/relationships/audio" Target="../media/bserie06.wav"/><Relationship Id="rId22" Type="http://schemas.openxmlformats.org/officeDocument/2006/relationships/audio" Target="../media/zipby102.wav"/><Relationship Id="rId23" Type="http://schemas.openxmlformats.org/officeDocument/2006/relationships/audio" Target="../media/children%20yeah.wav"/><Relationship Id="rId24" Type="http://schemas.openxmlformats.org/officeDocument/2006/relationships/audio" Target="../media/children%20yeah.wav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zapbig0g.wav"/><Relationship Id="rId3" Type="http://schemas.openxmlformats.org/officeDocument/2006/relationships/audio" Target="../media/zipup202.wav"/><Relationship Id="rId4" Type="http://schemas.openxmlformats.org/officeDocument/2006/relationships/audio" Target="../media/zapbig0g.wav"/><Relationship Id="rId5" Type="http://schemas.openxmlformats.org/officeDocument/2006/relationships/audio" Target="../media/boinng04.wav"/><Relationship Id="rId6" Type="http://schemas.openxmlformats.org/officeDocument/2006/relationships/audio" Target="../media/zapbig0g.wav"/><Relationship Id="rId7" Type="http://schemas.openxmlformats.org/officeDocument/2006/relationships/audio" Target="../media/zipby102.wav"/><Relationship Id="rId8" Type="http://schemas.openxmlformats.org/officeDocument/2006/relationships/audio" Target="../media/driveby.wav"/><Relationship Id="rId9" Type="http://schemas.openxmlformats.org/officeDocument/2006/relationships/audio" Target="../media/zapbig0g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zipby102.wav"/><Relationship Id="rId13" Type="http://schemas.openxmlformats.org/officeDocument/2006/relationships/audio" Target="../media/zipby102.wav"/><Relationship Id="rId14" Type="http://schemas.openxmlformats.org/officeDocument/2006/relationships/audio" Target="../media/zapbig0g.wav"/><Relationship Id="rId15" Type="http://schemas.openxmlformats.org/officeDocument/2006/relationships/audio" Target="../media/boinng04.wav"/><Relationship Id="rId16" Type="http://schemas.openxmlformats.org/officeDocument/2006/relationships/audio" Target="../media/zapbig0g.wav"/><Relationship Id="rId17" Type="http://schemas.openxmlformats.org/officeDocument/2006/relationships/audio" Target="../media/zipby102.wav"/><Relationship Id="rId18" Type="http://schemas.openxmlformats.org/officeDocument/2006/relationships/audio" Target="../media/driveby.wav"/><Relationship Id="rId19" Type="http://schemas.openxmlformats.org/officeDocument/2006/relationships/audio" Target="../media/zapbig0g.wav"/><Relationship Id="rId20" Type="http://schemas.openxmlformats.org/officeDocument/2006/relationships/audio" Target="../media/bserie06.wav"/><Relationship Id="rId21" Type="http://schemas.openxmlformats.org/officeDocument/2006/relationships/audio" Target="../media/bserie06.wav"/><Relationship Id="rId22" Type="http://schemas.openxmlformats.org/officeDocument/2006/relationships/audio" Target="../media/zipby102.wav"/><Relationship Id="rId23" Type="http://schemas.openxmlformats.org/officeDocument/2006/relationships/audio" Target="../media/children%20yeah.wav"/><Relationship Id="rId24" Type="http://schemas.openxmlformats.org/officeDocument/2006/relationships/audio" Target="../media/children%20yeah.wav"/><Relationship Id="rId2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zapbig0g.wav"/><Relationship Id="rId3" Type="http://schemas.openxmlformats.org/officeDocument/2006/relationships/audio" Target="../media/zipup202.wav"/><Relationship Id="rId4" Type="http://schemas.openxmlformats.org/officeDocument/2006/relationships/audio" Target="../media/zapbig0g.wav"/><Relationship Id="rId5" Type="http://schemas.openxmlformats.org/officeDocument/2006/relationships/audio" Target="../media/boinng04.wav"/><Relationship Id="rId6" Type="http://schemas.openxmlformats.org/officeDocument/2006/relationships/audio" Target="../media/zapbig0g.wav"/><Relationship Id="rId7" Type="http://schemas.openxmlformats.org/officeDocument/2006/relationships/audio" Target="../media/zipby102.wav"/><Relationship Id="rId8" Type="http://schemas.openxmlformats.org/officeDocument/2006/relationships/audio" Target="../media/driveby.wav"/><Relationship Id="rId9" Type="http://schemas.openxmlformats.org/officeDocument/2006/relationships/audio" Target="../media/zapbig0g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zipby102.wav"/><Relationship Id="rId13" Type="http://schemas.openxmlformats.org/officeDocument/2006/relationships/audio" Target="../media/zipby102.wav"/><Relationship Id="rId14" Type="http://schemas.openxmlformats.org/officeDocument/2006/relationships/audio" Target="../media/zapbig0g.wav"/><Relationship Id="rId15" Type="http://schemas.openxmlformats.org/officeDocument/2006/relationships/audio" Target="../media/boinng04.wav"/><Relationship Id="rId16" Type="http://schemas.openxmlformats.org/officeDocument/2006/relationships/audio" Target="../media/zapbig0g.wav"/><Relationship Id="rId17" Type="http://schemas.openxmlformats.org/officeDocument/2006/relationships/audio" Target="../media/zipby102.wav"/><Relationship Id="rId18" Type="http://schemas.openxmlformats.org/officeDocument/2006/relationships/audio" Target="../media/driveby.wav"/><Relationship Id="rId19" Type="http://schemas.openxmlformats.org/officeDocument/2006/relationships/audio" Target="../media/zapbig0g.wav"/><Relationship Id="rId20" Type="http://schemas.openxmlformats.org/officeDocument/2006/relationships/audio" Target="../media/bserie06.wav"/><Relationship Id="rId21" Type="http://schemas.openxmlformats.org/officeDocument/2006/relationships/audio" Target="../media/bserie06.wav"/><Relationship Id="rId22" Type="http://schemas.openxmlformats.org/officeDocument/2006/relationships/audio" Target="../media/zipby102.wav"/><Relationship Id="rId23" Type="http://schemas.openxmlformats.org/officeDocument/2006/relationships/audio" Target="../media/children%20yeah.wav"/><Relationship Id="rId24" Type="http://schemas.openxmlformats.org/officeDocument/2006/relationships/audio" Target="../media/children%20yeah.wav"/><Relationship Id="rId2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shiphorn.wav"/><Relationship Id="rId3" Type="http://schemas.openxmlformats.org/officeDocument/2006/relationships/audio" Target="../media/zipup202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zipby102.wav"/><Relationship Id="rId7" Type="http://schemas.openxmlformats.org/officeDocument/2006/relationships/audio" Target="../media/driveby.wav"/><Relationship Id="rId8" Type="http://schemas.openxmlformats.org/officeDocument/2006/relationships/audio" Target="../media/driveby.wav"/><Relationship Id="rId9" Type="http://schemas.openxmlformats.org/officeDocument/2006/relationships/audio" Target="../media/zipby102.wav"/><Relationship Id="rId10" Type="http://schemas.openxmlformats.org/officeDocument/2006/relationships/audio" Target="../media/driveby.wav"/><Relationship Id="rId11" Type="http://schemas.openxmlformats.org/officeDocument/2006/relationships/audio" Target="../media/driveby.wav"/><Relationship Id="rId12" Type="http://schemas.openxmlformats.org/officeDocument/2006/relationships/audio" Target="../media/zipby102.wav"/><Relationship Id="rId13" Type="http://schemas.openxmlformats.org/officeDocument/2006/relationships/audio" Target="../media/driveby.wav"/><Relationship Id="rId14" Type="http://schemas.openxmlformats.org/officeDocument/2006/relationships/audio" Target="../media/children%20yeah.wav"/><Relationship Id="rId15" Type="http://schemas.openxmlformats.org/officeDocument/2006/relationships/audio" Target="../media/children%20yeah.wav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elephone.wav"/><Relationship Id="rId3" Type="http://schemas.openxmlformats.org/officeDocument/2006/relationships/audio" Target="../media/zipup202.wav"/><Relationship Id="rId4" Type="http://schemas.openxmlformats.org/officeDocument/2006/relationships/audio" Target="../media/zapbig0g.wav"/><Relationship Id="rId5" Type="http://schemas.openxmlformats.org/officeDocument/2006/relationships/audio" Target="../media/boinng04.wav"/><Relationship Id="rId6" Type="http://schemas.openxmlformats.org/officeDocument/2006/relationships/audio" Target="../media/zapbig0g.wav"/><Relationship Id="rId7" Type="http://schemas.openxmlformats.org/officeDocument/2006/relationships/audio" Target="../media/zipby102.wav"/><Relationship Id="rId8" Type="http://schemas.openxmlformats.org/officeDocument/2006/relationships/audio" Target="../media/driveby.wav"/><Relationship Id="rId9" Type="http://schemas.openxmlformats.org/officeDocument/2006/relationships/audio" Target="../media/zapbig0g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zipby102.wav"/><Relationship Id="rId13" Type="http://schemas.openxmlformats.org/officeDocument/2006/relationships/audio" Target="../media/zipby102.wav"/><Relationship Id="rId14" Type="http://schemas.openxmlformats.org/officeDocument/2006/relationships/audio" Target="../media/zapbig0g.wav"/><Relationship Id="rId15" Type="http://schemas.openxmlformats.org/officeDocument/2006/relationships/audio" Target="../media/boinng04.wav"/><Relationship Id="rId16" Type="http://schemas.openxmlformats.org/officeDocument/2006/relationships/audio" Target="../media/zapbig0g.wav"/><Relationship Id="rId17" Type="http://schemas.openxmlformats.org/officeDocument/2006/relationships/audio" Target="../media/zipby102.wav"/><Relationship Id="rId18" Type="http://schemas.openxmlformats.org/officeDocument/2006/relationships/audio" Target="../media/driveby.wav"/><Relationship Id="rId19" Type="http://schemas.openxmlformats.org/officeDocument/2006/relationships/audio" Target="../media/zapbig0g.wav"/><Relationship Id="rId20" Type="http://schemas.openxmlformats.org/officeDocument/2006/relationships/audio" Target="../media/bserie06.wav"/><Relationship Id="rId21" Type="http://schemas.openxmlformats.org/officeDocument/2006/relationships/audio" Target="../media/bserie06.wav"/><Relationship Id="rId22" Type="http://schemas.openxmlformats.org/officeDocument/2006/relationships/audio" Target="../media/zipby102.wav"/><Relationship Id="rId23" Type="http://schemas.openxmlformats.org/officeDocument/2006/relationships/audio" Target="../media/children%20yeah.wav"/><Relationship Id="rId24" Type="http://schemas.openxmlformats.org/officeDocument/2006/relationships/audio" Target="../media/children%20yeah.wav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zipup202.wav"/><Relationship Id="rId3" Type="http://schemas.openxmlformats.org/officeDocument/2006/relationships/audio" Target="../media/zapbig0g.wav"/><Relationship Id="rId4" Type="http://schemas.openxmlformats.org/officeDocument/2006/relationships/audio" Target="../media/boinng04.wav"/><Relationship Id="rId5" Type="http://schemas.openxmlformats.org/officeDocument/2006/relationships/audio" Target="../media/zapbig0g.wav"/><Relationship Id="rId6" Type="http://schemas.openxmlformats.org/officeDocument/2006/relationships/audio" Target="../media/zipby102.wav"/><Relationship Id="rId7" Type="http://schemas.openxmlformats.org/officeDocument/2006/relationships/audio" Target="../media/driveby.wav"/><Relationship Id="rId8" Type="http://schemas.openxmlformats.org/officeDocument/2006/relationships/audio" Target="../media/zapbig0g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ipby102.wav"/><Relationship Id="rId12" Type="http://schemas.openxmlformats.org/officeDocument/2006/relationships/audio" Target="../media/zipby102.wav"/><Relationship Id="rId13" Type="http://schemas.openxmlformats.org/officeDocument/2006/relationships/audio" Target="../media/zapbig0g.wav"/><Relationship Id="rId14" Type="http://schemas.openxmlformats.org/officeDocument/2006/relationships/audio" Target="../media/boinng04.wav"/><Relationship Id="rId15" Type="http://schemas.openxmlformats.org/officeDocument/2006/relationships/audio" Target="../media/zapbig0g.wav"/><Relationship Id="rId16" Type="http://schemas.openxmlformats.org/officeDocument/2006/relationships/audio" Target="../media/zipby102.wav"/><Relationship Id="rId17" Type="http://schemas.openxmlformats.org/officeDocument/2006/relationships/audio" Target="../media/driveby.wav"/><Relationship Id="rId18" Type="http://schemas.openxmlformats.org/officeDocument/2006/relationships/audio" Target="../media/zapbig0g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zipby102.wav"/><Relationship Id="rId22" Type="http://schemas.openxmlformats.org/officeDocument/2006/relationships/audio" Target="../media/children%20yeah.wav"/><Relationship Id="rId23" Type="http://schemas.openxmlformats.org/officeDocument/2006/relationships/audio" Target="../media/children%20yeah.wav"/><Relationship Id="rId2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zipup202.wav"/><Relationship Id="rId3" Type="http://schemas.openxmlformats.org/officeDocument/2006/relationships/audio" Target="../media/zapbig0g.wav"/><Relationship Id="rId4" Type="http://schemas.openxmlformats.org/officeDocument/2006/relationships/audio" Target="../media/boinng04.wav"/><Relationship Id="rId5" Type="http://schemas.openxmlformats.org/officeDocument/2006/relationships/audio" Target="../media/zapbig0g.wav"/><Relationship Id="rId6" Type="http://schemas.openxmlformats.org/officeDocument/2006/relationships/audio" Target="../media/zipby102.wav"/><Relationship Id="rId7" Type="http://schemas.openxmlformats.org/officeDocument/2006/relationships/audio" Target="../media/driveby.wav"/><Relationship Id="rId8" Type="http://schemas.openxmlformats.org/officeDocument/2006/relationships/audio" Target="../media/zapbig0g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ipby102.wav"/><Relationship Id="rId12" Type="http://schemas.openxmlformats.org/officeDocument/2006/relationships/audio" Target="../media/zipby102.wav"/><Relationship Id="rId13" Type="http://schemas.openxmlformats.org/officeDocument/2006/relationships/audio" Target="../media/zapbig0g.wav"/><Relationship Id="rId14" Type="http://schemas.openxmlformats.org/officeDocument/2006/relationships/audio" Target="../media/boinng04.wav"/><Relationship Id="rId15" Type="http://schemas.openxmlformats.org/officeDocument/2006/relationships/audio" Target="../media/zapbig0g.wav"/><Relationship Id="rId16" Type="http://schemas.openxmlformats.org/officeDocument/2006/relationships/audio" Target="../media/zipby102.wav"/><Relationship Id="rId17" Type="http://schemas.openxmlformats.org/officeDocument/2006/relationships/audio" Target="../media/driveby.wav"/><Relationship Id="rId18" Type="http://schemas.openxmlformats.org/officeDocument/2006/relationships/audio" Target="../media/zapbig0g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zipby102.wav"/><Relationship Id="rId22" Type="http://schemas.openxmlformats.org/officeDocument/2006/relationships/audio" Target="../media/children%20yeah.wav"/><Relationship Id="rId23" Type="http://schemas.openxmlformats.org/officeDocument/2006/relationships/audio" Target="../media/children%20yeah.wav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zipup202.wav"/><Relationship Id="rId3" Type="http://schemas.openxmlformats.org/officeDocument/2006/relationships/audio" Target="../media/zapbig0g.wav"/><Relationship Id="rId4" Type="http://schemas.openxmlformats.org/officeDocument/2006/relationships/audio" Target="../media/boinng04.wav"/><Relationship Id="rId5" Type="http://schemas.openxmlformats.org/officeDocument/2006/relationships/audio" Target="../media/zapbig0g.wav"/><Relationship Id="rId6" Type="http://schemas.openxmlformats.org/officeDocument/2006/relationships/audio" Target="../media/zipby102.wav"/><Relationship Id="rId7" Type="http://schemas.openxmlformats.org/officeDocument/2006/relationships/audio" Target="../media/driveby.wav"/><Relationship Id="rId8" Type="http://schemas.openxmlformats.org/officeDocument/2006/relationships/audio" Target="../media/zapbig0g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ipby102.wav"/><Relationship Id="rId12" Type="http://schemas.openxmlformats.org/officeDocument/2006/relationships/audio" Target="../media/zipby102.wav"/><Relationship Id="rId13" Type="http://schemas.openxmlformats.org/officeDocument/2006/relationships/audio" Target="../media/zapbig0g.wav"/><Relationship Id="rId14" Type="http://schemas.openxmlformats.org/officeDocument/2006/relationships/audio" Target="../media/boinng04.wav"/><Relationship Id="rId15" Type="http://schemas.openxmlformats.org/officeDocument/2006/relationships/audio" Target="../media/zapbig0g.wav"/><Relationship Id="rId16" Type="http://schemas.openxmlformats.org/officeDocument/2006/relationships/audio" Target="../media/zipby102.wav"/><Relationship Id="rId17" Type="http://schemas.openxmlformats.org/officeDocument/2006/relationships/audio" Target="../media/driveby.wav"/><Relationship Id="rId18" Type="http://schemas.openxmlformats.org/officeDocument/2006/relationships/audio" Target="../media/zapbig0g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zipby102.wav"/><Relationship Id="rId22" Type="http://schemas.openxmlformats.org/officeDocument/2006/relationships/audio" Target="../media/children%20yeah.wav"/><Relationship Id="rId23" Type="http://schemas.openxmlformats.org/officeDocument/2006/relationships/audio" Target="../media/children%20yeah.wav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zipup202.wav"/><Relationship Id="rId3" Type="http://schemas.openxmlformats.org/officeDocument/2006/relationships/audio" Target="../media/zapbig0g.wav"/><Relationship Id="rId4" Type="http://schemas.openxmlformats.org/officeDocument/2006/relationships/audio" Target="../media/boinng04.wav"/><Relationship Id="rId5" Type="http://schemas.openxmlformats.org/officeDocument/2006/relationships/audio" Target="../media/zapbig0g.wav"/><Relationship Id="rId6" Type="http://schemas.openxmlformats.org/officeDocument/2006/relationships/audio" Target="../media/zipby102.wav"/><Relationship Id="rId7" Type="http://schemas.openxmlformats.org/officeDocument/2006/relationships/audio" Target="../media/driveby.wav"/><Relationship Id="rId8" Type="http://schemas.openxmlformats.org/officeDocument/2006/relationships/audio" Target="../media/zapbig0g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ipby102.wav"/><Relationship Id="rId12" Type="http://schemas.openxmlformats.org/officeDocument/2006/relationships/audio" Target="../media/zipby102.wav"/><Relationship Id="rId13" Type="http://schemas.openxmlformats.org/officeDocument/2006/relationships/audio" Target="../media/zapbig0g.wav"/><Relationship Id="rId14" Type="http://schemas.openxmlformats.org/officeDocument/2006/relationships/audio" Target="../media/boinng04.wav"/><Relationship Id="rId15" Type="http://schemas.openxmlformats.org/officeDocument/2006/relationships/audio" Target="../media/zapbig0g.wav"/><Relationship Id="rId16" Type="http://schemas.openxmlformats.org/officeDocument/2006/relationships/audio" Target="../media/zipby102.wav"/><Relationship Id="rId17" Type="http://schemas.openxmlformats.org/officeDocument/2006/relationships/audio" Target="../media/driveby.wav"/><Relationship Id="rId18" Type="http://schemas.openxmlformats.org/officeDocument/2006/relationships/audio" Target="../media/zapbig0g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zipby102.wav"/><Relationship Id="rId22" Type="http://schemas.openxmlformats.org/officeDocument/2006/relationships/audio" Target="../media/children%20yeah.wav"/><Relationship Id="rId23" Type="http://schemas.openxmlformats.org/officeDocument/2006/relationships/audio" Target="../media/children%20yeah.wav"/><Relationship Id="rId2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zipup202.wav"/><Relationship Id="rId3" Type="http://schemas.openxmlformats.org/officeDocument/2006/relationships/audio" Target="../media/zapbig0g.wav"/><Relationship Id="rId4" Type="http://schemas.openxmlformats.org/officeDocument/2006/relationships/audio" Target="../media/boinng04.wav"/><Relationship Id="rId5" Type="http://schemas.openxmlformats.org/officeDocument/2006/relationships/audio" Target="../media/zapbig0g.wav"/><Relationship Id="rId6" Type="http://schemas.openxmlformats.org/officeDocument/2006/relationships/audio" Target="../media/zipby102.wav"/><Relationship Id="rId7" Type="http://schemas.openxmlformats.org/officeDocument/2006/relationships/audio" Target="../media/driveby.wav"/><Relationship Id="rId8" Type="http://schemas.openxmlformats.org/officeDocument/2006/relationships/audio" Target="../media/zapbig0g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ipby102.wav"/><Relationship Id="rId12" Type="http://schemas.openxmlformats.org/officeDocument/2006/relationships/audio" Target="../media/zipby102.wav"/><Relationship Id="rId13" Type="http://schemas.openxmlformats.org/officeDocument/2006/relationships/audio" Target="../media/zapbig0g.wav"/><Relationship Id="rId14" Type="http://schemas.openxmlformats.org/officeDocument/2006/relationships/audio" Target="../media/boinng04.wav"/><Relationship Id="rId15" Type="http://schemas.openxmlformats.org/officeDocument/2006/relationships/audio" Target="../media/zapbig0g.wav"/><Relationship Id="rId16" Type="http://schemas.openxmlformats.org/officeDocument/2006/relationships/audio" Target="../media/zipby102.wav"/><Relationship Id="rId17" Type="http://schemas.openxmlformats.org/officeDocument/2006/relationships/audio" Target="../media/driveby.wav"/><Relationship Id="rId18" Type="http://schemas.openxmlformats.org/officeDocument/2006/relationships/audio" Target="../media/zapbig0g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zipby102.wav"/><Relationship Id="rId22" Type="http://schemas.openxmlformats.org/officeDocument/2006/relationships/audio" Target="../media/children%20yeah.wav"/><Relationship Id="rId23" Type="http://schemas.openxmlformats.org/officeDocument/2006/relationships/audio" Target="../media/children%20yeah.wav"/><Relationship Id="rId2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zapbig0g.wav"/><Relationship Id="rId3" Type="http://schemas.openxmlformats.org/officeDocument/2006/relationships/audio" Target="../media/zipup202.wav"/><Relationship Id="rId4" Type="http://schemas.openxmlformats.org/officeDocument/2006/relationships/audio" Target="../media/zapbig0g.wav"/><Relationship Id="rId5" Type="http://schemas.openxmlformats.org/officeDocument/2006/relationships/audio" Target="../media/boinng04.wav"/><Relationship Id="rId6" Type="http://schemas.openxmlformats.org/officeDocument/2006/relationships/audio" Target="../media/zapbig0g.wav"/><Relationship Id="rId7" Type="http://schemas.openxmlformats.org/officeDocument/2006/relationships/audio" Target="../media/zipby102.wav"/><Relationship Id="rId8" Type="http://schemas.openxmlformats.org/officeDocument/2006/relationships/audio" Target="../media/driveby.wav"/><Relationship Id="rId9" Type="http://schemas.openxmlformats.org/officeDocument/2006/relationships/audio" Target="../media/zapbig0g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zipby102.wav"/><Relationship Id="rId13" Type="http://schemas.openxmlformats.org/officeDocument/2006/relationships/audio" Target="../media/zipby102.wav"/><Relationship Id="rId14" Type="http://schemas.openxmlformats.org/officeDocument/2006/relationships/audio" Target="../media/zapbig0g.wav"/><Relationship Id="rId15" Type="http://schemas.openxmlformats.org/officeDocument/2006/relationships/audio" Target="../media/boinng04.wav"/><Relationship Id="rId16" Type="http://schemas.openxmlformats.org/officeDocument/2006/relationships/audio" Target="../media/zapbig0g.wav"/><Relationship Id="rId17" Type="http://schemas.openxmlformats.org/officeDocument/2006/relationships/audio" Target="../media/zipby102.wav"/><Relationship Id="rId18" Type="http://schemas.openxmlformats.org/officeDocument/2006/relationships/audio" Target="../media/driveby.wav"/><Relationship Id="rId19" Type="http://schemas.openxmlformats.org/officeDocument/2006/relationships/audio" Target="../media/zapbig0g.wav"/><Relationship Id="rId20" Type="http://schemas.openxmlformats.org/officeDocument/2006/relationships/audio" Target="../media/bserie06.wav"/><Relationship Id="rId21" Type="http://schemas.openxmlformats.org/officeDocument/2006/relationships/audio" Target="../media/bserie06.wav"/><Relationship Id="rId22" Type="http://schemas.openxmlformats.org/officeDocument/2006/relationships/audio" Target="../media/zipby102.wav"/><Relationship Id="rId23" Type="http://schemas.openxmlformats.org/officeDocument/2006/relationships/audio" Target="../media/children%20yeah.wav"/><Relationship Id="rId24" Type="http://schemas.openxmlformats.org/officeDocument/2006/relationships/audio" Target="../media/children%20yeah.wav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277920" y="2109960"/>
                <a:ext cx="8148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Divide  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  by  </m:t>
                    </m:r>
                    <m:r>
                      <m:t xml:space="preserve">6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viding a Polynomial by a Mo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595520" y="3141720"/>
            <a:ext cx="534960" cy="35568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498680" y="2878200"/>
                <a:ext cx="416376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195560" y="2754360"/>
                <a:ext cx="477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103560" y="2790720"/>
                <a:ext cx="4777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600200" y="4923000"/>
                <a:ext cx="15508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056040" y="4989600"/>
                <a:ext cx="9824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 flipV="1">
            <a:off x="1825560" y="3906360"/>
            <a:ext cx="389160" cy="3891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616120" y="2859120"/>
                <a:ext cx="5288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2370240" y="1176480"/>
            <a:ext cx="4105080" cy="97740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ivide each term of the numerator by  6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220840" y="3125520"/>
            <a:ext cx="463680" cy="3697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149560" y="3968640"/>
            <a:ext cx="463320" cy="37008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381480" y="3165480"/>
            <a:ext cx="555480" cy="2952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478320" y="3897360"/>
            <a:ext cx="387360" cy="3873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911760" y="3060720"/>
            <a:ext cx="293400" cy="13399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808520" y="3176280"/>
            <a:ext cx="611280" cy="3301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388120" y="2768760"/>
                <a:ext cx="4302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 flipV="1">
            <a:off x="4826160" y="3881520"/>
            <a:ext cx="387360" cy="3873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044960" y="4589640"/>
                <a:ext cx="1136520" cy="17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35080" y="1084320"/>
                <a:ext cx="82944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Divide  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  by  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 Long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96880" y="2192400"/>
                <a:ext cx="45385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6</m:t>
                        </m:r>
                      </m:e>
                    </m:ba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008000" y="5573880"/>
                <a:ext cx="24703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529080" y="5205240"/>
                <a:ext cx="2017800" cy="17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276720" y="1646280"/>
                <a:ext cx="7952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5450040" y="220176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1. Write in standard for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50040" y="334332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3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951200" y="2797200"/>
                <a:ext cx="24732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 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1866960" y="3583080"/>
            <a:ext cx="244296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32400" y="375768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4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544760" y="3044880"/>
                <a:ext cx="5220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890800" y="3032280"/>
                <a:ext cx="5223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868480" y="3552840"/>
                <a:ext cx="1170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971880" y="3567240"/>
                <a:ext cx="10749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5450040" y="418320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5. What do you multiply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–9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038480" y="1654200"/>
                <a:ext cx="8413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827440" y="4010040"/>
                <a:ext cx="21873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5430960" y="500868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6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14560" y="4705200"/>
            <a:ext cx="218448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50040" y="549576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7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825640" y="4003560"/>
                <a:ext cx="5749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946680" y="4003560"/>
                <a:ext cx="57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556160" y="4684680"/>
                <a:ext cx="4204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5450040" y="260676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2. What do you multiply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6y</a:t>
            </a:r>
            <a:r>
              <a:rPr b="1" lang="en-US" sz="25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5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44440" y="1101600"/>
                <a:ext cx="68565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Divide  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by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 Long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703440" y="2192400"/>
                <a:ext cx="420984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6</m:t>
                        </m:r>
                      </m:e>
                    </m:ba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008000" y="5630760"/>
                <a:ext cx="24703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606840" y="5256360"/>
                <a:ext cx="186192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3238560" y="1692360"/>
                <a:ext cx="795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5450040" y="188424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1. Insert place-holding ter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50040" y="334332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3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924200" y="2843280"/>
                <a:ext cx="219204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1866960" y="3583080"/>
            <a:ext cx="244296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32400" y="375768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4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544760" y="3044880"/>
                <a:ext cx="5220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865600" y="2901960"/>
                <a:ext cx="57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316320" y="3524400"/>
                <a:ext cx="795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087800" y="3529080"/>
                <a:ext cx="8413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5450040" y="418320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5. What do you multiply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6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983040" y="1690560"/>
                <a:ext cx="84132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298680" y="4056120"/>
                <a:ext cx="16178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5430960" y="500868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6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14560" y="4705200"/>
            <a:ext cx="218448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50040" y="549576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7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2889360" y="4133880"/>
                <a:ext cx="5220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3984480" y="4003560"/>
                <a:ext cx="574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4481640" y="4684680"/>
                <a:ext cx="4204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5450040" y="260676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2. What do you multiply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6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41200" y="1081080"/>
                <a:ext cx="8391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Divide  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  by  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 Long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11200" y="2192400"/>
                <a:ext cx="46324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4</m:t>
                        </m:r>
                      </m:e>
                    </m:ba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1008000" y="5630760"/>
                <a:ext cx="24703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529080" y="5256360"/>
                <a:ext cx="201780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238560" y="1692360"/>
                <a:ext cx="795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5450040" y="218268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1. Write in standard for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50040" y="334332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3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865160" y="2843280"/>
                <a:ext cx="24256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1866960" y="3583080"/>
            <a:ext cx="244296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32400" y="375768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4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544760" y="3044880"/>
                <a:ext cx="5220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2852640" y="3032280"/>
                <a:ext cx="5223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3051000" y="3524400"/>
                <a:ext cx="121608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143240" y="3529080"/>
                <a:ext cx="8416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5450040" y="418320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5. What do you multiply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-6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983040" y="1690560"/>
                <a:ext cx="84132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949480" y="4056120"/>
                <a:ext cx="22827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5430960" y="500868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6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14560" y="4705200"/>
            <a:ext cx="218448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450040" y="549576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7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2863800" y="4003560"/>
                <a:ext cx="5745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4040280" y="4003560"/>
                <a:ext cx="57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435560" y="4665600"/>
                <a:ext cx="70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5450040" y="260676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2. What do you multiply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4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500"/>
                            </p:stCondLst>
                            <p:childTnLst>
                              <p:par>
                                <p:cTn id="1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500"/>
                            </p:stCondLst>
                            <p:childTnLst>
                              <p:par>
                                <p:cTn id="1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500"/>
                            </p:stCondLst>
                            <p:childTnLst>
                              <p:par>
                                <p:cTn id="1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500"/>
                            </p:stCondLst>
                            <p:childTnLst>
                              <p:par>
                                <p:cTn id="1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91960" y="2109960"/>
                <a:ext cx="78598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Divide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by  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viding a Polynomial by a Mo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286000" y="3216240"/>
            <a:ext cx="534960" cy="35568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893960" y="2979720"/>
                <a:ext cx="336852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886040" y="2828880"/>
                <a:ext cx="477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527280" y="2916360"/>
                <a:ext cx="8604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141640" y="4811760"/>
                <a:ext cx="15508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622680" y="4853160"/>
                <a:ext cx="930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 flipV="1">
            <a:off x="2516040" y="3981600"/>
            <a:ext cx="389160" cy="3888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232080" y="2774880"/>
                <a:ext cx="5288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2370240" y="1176480"/>
            <a:ext cx="4105080" cy="97740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ivide each term of the numerator by  -3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911320" y="3200040"/>
            <a:ext cx="463680" cy="3697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840040" y="4043160"/>
            <a:ext cx="463680" cy="3697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071960" y="3240000"/>
            <a:ext cx="555480" cy="2952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187880" y="3990600"/>
            <a:ext cx="592200" cy="3510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858920" y="3227040"/>
            <a:ext cx="96840" cy="122868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28680" y="1065240"/>
                <a:ext cx="75261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Divide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 by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 Long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20640" y="2190600"/>
                <a:ext cx="397692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219320" y="5630760"/>
                <a:ext cx="21254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327480" y="5256360"/>
                <a:ext cx="186048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193920" y="1816200"/>
                <a:ext cx="5144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5450040" y="201456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1. What do you multiply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50040" y="274464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2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874880" y="2862360"/>
                <a:ext cx="177480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1866960" y="3583080"/>
            <a:ext cx="182880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32400" y="315900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3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562040" y="3083040"/>
                <a:ext cx="5223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722680" y="3032280"/>
                <a:ext cx="52200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573280" y="3619440"/>
                <a:ext cx="1168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711600" y="3603600"/>
                <a:ext cx="8413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5450040" y="358452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4. What do you multiply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–5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686040" y="1655640"/>
                <a:ext cx="8416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73280" y="4122720"/>
                <a:ext cx="1916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5430960" y="441000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5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28800" y="4705200"/>
            <a:ext cx="182880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50040" y="489744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6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546280" y="4095720"/>
                <a:ext cx="5731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649680" y="4098960"/>
                <a:ext cx="57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794040" y="4708440"/>
                <a:ext cx="7477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85760" y="1065240"/>
                <a:ext cx="78138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Divide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  by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 Long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55480" y="2190600"/>
                <a:ext cx="425628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219320" y="5630760"/>
                <a:ext cx="21254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274920" y="5256360"/>
                <a:ext cx="196524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193920" y="1816200"/>
                <a:ext cx="5144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5450040" y="201456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1. What do you multiply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50040" y="274464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2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901880" y="2862360"/>
                <a:ext cx="186840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1866960" y="3583080"/>
            <a:ext cx="182880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32400" y="315900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3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600200" y="3083040"/>
                <a:ext cx="5223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603520" y="2901960"/>
                <a:ext cx="57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000240" y="3600360"/>
                <a:ext cx="7956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668760" y="3625920"/>
                <a:ext cx="10764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5450040" y="358452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4. What do you multiply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9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686040" y="1655640"/>
                <a:ext cx="8416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949480" y="4122720"/>
                <a:ext cx="18702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430960" y="441000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5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28800" y="4705200"/>
            <a:ext cx="182880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50040" y="489744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6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571840" y="4226040"/>
                <a:ext cx="5205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649680" y="4098960"/>
                <a:ext cx="57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062240" y="4703760"/>
                <a:ext cx="654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44440" y="1084320"/>
                <a:ext cx="82929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Divide  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by  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 Long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85760" y="2190600"/>
                <a:ext cx="477036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3</m:t>
                        </m:r>
                      </m:e>
                    </m:ba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276200" y="5630760"/>
                <a:ext cx="20116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232080" y="5256360"/>
                <a:ext cx="227484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471840" y="1816200"/>
                <a:ext cx="5144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5450040" y="201456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1. What do you multiply 3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3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50040" y="274464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2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62200" y="2862360"/>
                <a:ext cx="214776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866960" y="3583080"/>
            <a:ext cx="182880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32400" y="315900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3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376280" y="3083040"/>
                <a:ext cx="5223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603520" y="2901960"/>
                <a:ext cx="57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664000" y="3600360"/>
                <a:ext cx="1169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762360" y="3603600"/>
                <a:ext cx="1076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450040" y="358452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4. What do you multiply 3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–3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010040" y="1677960"/>
                <a:ext cx="7477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666880" y="4086360"/>
                <a:ext cx="21034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5430960" y="441000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5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28800" y="4705200"/>
            <a:ext cx="182880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50040" y="489744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6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620800" y="4095720"/>
                <a:ext cx="5731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786120" y="4173480"/>
                <a:ext cx="52236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740040" y="4726080"/>
                <a:ext cx="10749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39840" y="1084320"/>
                <a:ext cx="81025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Divide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by 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 Long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27160" y="2135160"/>
                <a:ext cx="45370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2</m:t>
                        </m:r>
                      </m:e>
                    </m:ba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219320" y="5630760"/>
                <a:ext cx="21254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282840" y="5256360"/>
                <a:ext cx="217188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471840" y="1816200"/>
                <a:ext cx="5144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5450040" y="201456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1. What do you multiply 2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2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50040" y="274464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2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33400" y="2862360"/>
                <a:ext cx="205452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1866960" y="3583080"/>
            <a:ext cx="182880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32400" y="315900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3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376280" y="3083040"/>
                <a:ext cx="5223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660760" y="2901960"/>
                <a:ext cx="57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00240" y="3600360"/>
                <a:ext cx="7956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824280" y="3603600"/>
                <a:ext cx="8413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5450040" y="358452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4. What do you multiply 2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6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889440" y="1654200"/>
                <a:ext cx="8413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059280" y="4086360"/>
                <a:ext cx="15429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5430960" y="441000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5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28800" y="4705200"/>
            <a:ext cx="182880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50040" y="489744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6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646360" y="4226040"/>
                <a:ext cx="5205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760920" y="4043520"/>
                <a:ext cx="57312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081320" y="4703760"/>
                <a:ext cx="468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33360" y="1103400"/>
                <a:ext cx="7815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Divide  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  by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 Long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58640" y="2154240"/>
                <a:ext cx="44434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4</m:t>
                        </m:r>
                      </m:e>
                    </m:ba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79320" y="5611680"/>
                <a:ext cx="27576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386160" y="5256360"/>
                <a:ext cx="196524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976480" y="1635120"/>
                <a:ext cx="7956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5450040" y="201456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1. What do you multiply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4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50040" y="274464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2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754280" y="2862360"/>
                <a:ext cx="256860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1866960" y="3583080"/>
            <a:ext cx="182880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32400" y="315900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3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376280" y="3083040"/>
                <a:ext cx="5223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666880" y="3032280"/>
                <a:ext cx="5223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506680" y="3581280"/>
                <a:ext cx="1449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821040" y="3603600"/>
                <a:ext cx="10749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450040" y="358452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4. What do you multiply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-31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735360" y="1654200"/>
                <a:ext cx="10746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470320" y="4086360"/>
                <a:ext cx="27590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5430960" y="441000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5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28800" y="4705200"/>
            <a:ext cx="218448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50040" y="489744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6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452680" y="4095720"/>
                <a:ext cx="5731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778200" y="4098960"/>
                <a:ext cx="5731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121280" y="4684680"/>
                <a:ext cx="10285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45960" y="1103400"/>
                <a:ext cx="8391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Divide  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by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 Long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28600" y="2154240"/>
                <a:ext cx="48657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ba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1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25600" y="5630760"/>
                <a:ext cx="31017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554280" y="5256360"/>
                <a:ext cx="196560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843280" y="1671480"/>
                <a:ext cx="12160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5450040" y="201456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1. What do you multiply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-6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50040" y="274464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2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568520" y="2862360"/>
                <a:ext cx="294156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1866960" y="3583080"/>
            <a:ext cx="244296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32400" y="315900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3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481040" y="2933640"/>
                <a:ext cx="5749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890800" y="3032280"/>
                <a:ext cx="5223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879640" y="3581280"/>
                <a:ext cx="1449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265640" y="3589200"/>
                <a:ext cx="7477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5450040" y="358452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4. What do you multiply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-15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922560" y="1654200"/>
                <a:ext cx="10749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778120" y="4105440"/>
                <a:ext cx="24782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5430960" y="441000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5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14560" y="4705200"/>
            <a:ext cx="218448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50040" y="489744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6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770200" y="4114800"/>
                <a:ext cx="5731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121280" y="4191120"/>
                <a:ext cx="52200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075200" y="4684680"/>
                <a:ext cx="1122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38040" y="1084320"/>
                <a:ext cx="66168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Divide  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by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 Long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06600" y="2192400"/>
                <a:ext cx="42573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4</m:t>
                        </m:r>
                      </m:e>
                    </m:ba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96960" y="5630760"/>
                <a:ext cx="27576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554280" y="5256360"/>
                <a:ext cx="196560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219480" y="1671480"/>
                <a:ext cx="7952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5450040" y="182880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1. Insert place-holding ter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50040" y="334332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3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927080" y="2843280"/>
                <a:ext cx="25210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866960" y="3583080"/>
            <a:ext cx="244296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32400" y="375768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4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544760" y="3044880"/>
                <a:ext cx="5220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865600" y="2901960"/>
                <a:ext cx="57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238560" y="3581280"/>
                <a:ext cx="10285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265640" y="3589200"/>
                <a:ext cx="7477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5450040" y="418320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5. What do you multiply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12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922560" y="1677960"/>
                <a:ext cx="10749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247920" y="4068720"/>
                <a:ext cx="20574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5430960" y="500868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6. Multiply by dist. pr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14560" y="4705200"/>
            <a:ext cx="2184480" cy="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50040" y="5495760"/>
            <a:ext cx="36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7. Change signs and ad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795760" y="4245120"/>
                <a:ext cx="5220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151160" y="4060800"/>
                <a:ext cx="574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416480" y="4684680"/>
                <a:ext cx="70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5450040" y="2606760"/>
            <a:ext cx="369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2. What do you multiply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</a:rPr>
              <a:t> by to get 4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5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50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500"/>
                            </p:stCondLst>
                            <p:childTnLst>
                              <p:par>
                                <p:cTn id="9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3-02-24T12:19:20Z</dcterms:modified>
  <cp:revision>331</cp:revision>
  <dc:subject/>
  <dc:title>No Slide Title</dc:title>
</cp:coreProperties>
</file>